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4F8-60A8-46B3-8BE1-F35A16B1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31F-2977-439D-9858-6914F93A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12E-4372-4218-A761-7468BE3C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4CE-C550-4D9A-B812-94829D3D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8D50-56CE-47A9-950D-206AF2A6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3BAE-905F-4C55-A0D7-A2375626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C2E0-C32C-4313-881D-24CDC8EB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7182-B2A1-4FC4-9106-6E4ED07E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9096-5602-4D56-A39B-BDFE9BDE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5BAF-900A-485E-B92A-B0D882E7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7F70-3176-4E4C-BA8B-4596806A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5AC-5F6C-4FFF-92B8-5645A2BA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F904-EBA1-497D-9C78-4792D2D4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0316-5A78-49A3-8D72-30878A65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C043-A0E5-4A25-9841-9679E26A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5F0B-7A27-43AB-872F-4E402173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144D-F92A-44DD-B9B6-27BF13C9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B66-0E0F-421F-95D0-37426A03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FE9-EB44-4407-8108-A6726D7D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DE2-A8DA-4942-A8A1-72021483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0A2-D573-4AF4-93A1-326ABD82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054-8029-4AEB-819E-B41D3B1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983-17CD-47BE-A9B3-780A89C5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06A-61F6-493D-9318-640DAF9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A3AD-1E75-48E5-9D3F-99BB7EAF226E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46040" y="190296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9318-8906-4556-86B4-364363C9F5F8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46040" y="190296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King J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8960" y="52574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743200" y="2103480"/>
            <a:ext cx="3657600" cy="2651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733920" y="5033880"/>
            <a:ext cx="172548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8:18:53Z</dcterms:created>
  <dc:creator>Stone Bank School</dc:creator>
  <dc:description/>
  <dc:language>en-US</dc:language>
  <cp:lastModifiedBy>Stone Bank School</cp:lastModifiedBy>
  <dcterms:modified xsi:type="dcterms:W3CDTF">2009-10-15T19:24:55Z</dcterms:modified>
  <cp:revision>2</cp:revision>
  <dc:subject/>
  <dc:title>The King JS</dc:title>
</cp:coreProperties>
</file>